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73A-63AA-4721-A5C5-2F1C8C72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888-7A29-4D20-A211-9F56721B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087-1629-4669-8BB5-CE6DD416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0F2-A641-474A-8D24-9A9E5172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BBD-F317-428E-83EF-696E4DA7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627-99CA-4BB4-BE17-85609515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C14-28C3-4DD6-B32A-59FD73E4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6AE-F113-4EE7-B852-84A5EEFD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17D-9F5F-4AA1-9146-C854C785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22D-4CEE-4767-9CE6-3B1463A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CF5-DD25-4C63-9C54-ABF9105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23A-06BB-4501-98B6-7ABF1C1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C697-9CE1-452D-87BF-A5B7EA793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6172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380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5627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9528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3434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06668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16002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22860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97180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3505320"/>
            <a:ext cx="457200" cy="4572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9:59:05Z</dcterms:created>
  <dc:creator>Underwood School</dc:creator>
  <dc:description/>
  <dc:language>en-US</dc:language>
  <cp:lastModifiedBy>Underwood Community Schools</cp:lastModifiedBy>
  <dcterms:modified xsi:type="dcterms:W3CDTF">2005-12-06T20:13:01Z</dcterms:modified>
  <cp:revision>2</cp:revision>
  <dc:subject/>
  <dc:title>PowerPoint Presentation</dc:title>
</cp:coreProperties>
</file>